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462D-22F7-4B45-ABC4-6E5643F8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D2E4-63D2-4B96-80AF-C8CB7AA2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9739-6C5E-42B2-91C4-FB2CEAE5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CAC4-B2C1-4FD6-A54C-B9C5F943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D33B-DAB5-4C53-84B4-D2641606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1406-DCFC-4CE0-B222-FDD6A413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3594-2FAA-404D-AC75-62339AD4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D1B5-916B-42BD-A90F-898B97F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B22B-B740-48E1-95F1-D702C6C9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DBBE-0267-4C6C-9680-77DCCF96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CBB0-E108-42A2-A68F-D5E03A64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6B00-CE85-4AE6-A8BF-3D6C4C32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2913-99D7-458D-A2FC-76A285F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7D49-D186-4327-8C1E-A951B6D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475E-EA8C-43E6-BA75-5996496D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A8EE-0EAE-46AE-99F8-86011C53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75EF-66B4-47FC-90F0-DFD79B2F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982E-3C7A-4B38-BB13-F90DCEA2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B20C-4487-4797-8F1D-0EECC27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B1B8-5FC9-451B-97FE-6A3B1B5F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9A55-E78B-4830-B231-E004D286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CFEC-E5B0-493C-9672-764A3AE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1589-1D68-4D98-A57C-446769B5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2AAD5-D625-4368-9469-BEB3157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3727-CDD9-4ED2-92DF-A37A4B6A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2F580-FD33-40F5-9B65-BB49DA7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E975-227A-416F-A751-9A5B5B2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34B0-D4C1-4490-8BDE-E2F19897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B6F1-F9A0-4FE7-862C-5E7812C0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4163-434A-4A83-BCC6-1B7DF06C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FAC60-A070-4F52-96FE-3D647FE0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6C6C-B32E-4EEE-A0AF-2CFD74AC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CCA7-24B0-4719-B286-7AC5DF26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50BA-2A2C-4EE9-ABD1-98B9EDD4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E466-C70B-4FD9-BE50-BA7C54A6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2055-7076-45D6-AB2D-558B6699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0BCE-50C2-4864-A67D-224A4CF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4041-684E-45CF-88B5-33995B6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951B-88F8-42F2-81C6-E5DB1834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E4A8-2C5E-4A41-B2ED-EF154E2A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154D-E819-4D3B-9BCD-6D09C68F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0E15-B9F6-4DA8-8BDA-A04EB097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6569D-9622-45CD-A600-FE2FB34A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9AF8-33E8-472E-9324-1FB9F338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A62D-F295-48B1-8A38-2D0F3610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934B-C51C-4065-938E-65CB45AA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9A95-85D6-4422-BA0A-C4C9BF8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26A08-3629-4D99-BB0D-0405F7A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2ADB4-29CE-41BF-B939-F4B9A1FE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EF7B-C1BD-431E-A5BD-3B3060F4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9D314-A7C5-4DCD-824A-35D7182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C7C6B-A533-4CE6-B743-C9F119FF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56E9-005A-4C33-8902-77EB51AE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F76EE-09AB-4577-AD77-5C659AFD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7D37-5B98-459A-B8EF-83BB76F7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E659-B3CA-440A-B583-D559CB89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2231-FD95-4C9B-91B7-0B083A2C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ADFA8-B361-4B38-9796-A6335334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C32D-9F8C-4682-9E06-286E031E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361A-1D9E-41FA-A798-B4801BE1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11102-B294-44E9-BF52-D9B8B155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90333-1CDA-456E-AAC4-05D31F2A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B08F8-9837-4234-85EE-6E23438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5455A-7CD9-47AA-8982-2EBE4D2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890A4-2EBF-4853-B43A-62F69D5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EE95-5A18-4C99-8A0D-D4E18EC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99F4-6FF2-435A-8747-2C05445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EF24D-2309-4B9F-A290-2091E5F3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E5DB-DC5A-4D58-A6B2-B765023D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F1E6F-3F7A-4AFC-8F07-FBF971BC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47882-F9B4-4DCA-9747-B09BF3C2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59E61-22CB-46E8-9C42-723216D5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BCE96-458C-4935-B167-13F91D4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B581-6E5D-41AF-A1DC-341BAD4A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D5DCA-BE31-46C6-8063-BC68DA56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5DC0-2BA2-46ED-9C96-0FAE7F81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099DB-CC60-4F65-9B56-F69BA14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C42E-7034-428C-85CD-6B6FA22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BF4D-2AAA-4E84-88EE-42BD1B3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E932F-C540-4BBD-A2D9-1C5023B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89430-150B-40C2-8708-43095048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5D8F4-3626-4AA9-8C92-17D957C0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145B-B175-4583-8C32-F3208D36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9F467-E187-4686-B8E6-593DB6B7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C9EC8-CC20-49A3-B424-1455C257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E99ED-CB67-4D6B-A09E-FE1CAB74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CA29-BCB4-44E3-84B0-28A3090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22FF7-66E6-4741-A29C-8E375868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0F0F-FF6D-4855-BCDA-23C5A36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E5C0-955E-4DEC-B8D0-813FFEAF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DD065-34D1-436F-B144-9C53A8B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D70DB-6269-486D-B11B-C20251A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1C937-176A-4FF4-A559-FDAD7322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6BAB6-6F21-42D4-8A17-019A2E9A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01FF8-903F-4C49-B468-4EA6BE4C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BB91B-913C-4433-AA95-B2745D46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11C-8B2D-488D-9D4C-9A14AE61D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575-FAFC-4A03-9B6A-31F990BC7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323-710E-49F4-ADD0-5FE3DFAE9B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5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7DCF-C084-4699-8746-DC93E9D61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4715-6BB2-4BA6-8330-01912A548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4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0CB1-D17A-4689-A9F8-9151F5DEED7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E273-B63E-4E7E-9DB9-ED0A157E3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4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0AF8-E3F6-4955-9D1B-3E0F4B946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Mi viaje a dominican republic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ustin Bour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3595680" y="2766960"/>
            <a:ext cx="1952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AutoShape 12"/>
          <p:cNvSpPr/>
          <p:nvPr/>
        </p:nvSpPr>
        <p:spPr>
          <a:xfrm>
            <a:off x="3595680" y="2766960"/>
            <a:ext cx="1952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AutoShape 18"/>
          <p:cNvSpPr/>
          <p:nvPr/>
        </p:nvSpPr>
        <p:spPr>
          <a:xfrm>
            <a:off x="3652920" y="2862360"/>
            <a:ext cx="1838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6024600" y="74865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publi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3652920" y="2862360"/>
            <a:ext cx="1838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AutoShape 23"/>
          <p:cNvSpPr/>
          <p:nvPr/>
        </p:nvSpPr>
        <p:spPr>
          <a:xfrm>
            <a:off x="3652920" y="2862360"/>
            <a:ext cx="18381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2" name="Picture 25" descr="spanish_fla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6"/>
          <p:cNvSpPr/>
          <p:nvPr/>
        </p:nvSpPr>
        <p:spPr>
          <a:xfrm>
            <a:off x="55627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Garamond"/>
              </a:rPr>
              <a:t>Mi viaje a spa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5715000" y="2743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Garamond"/>
              </a:rPr>
              <a:t>Por justin bourqu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a Numero U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la mamma y papa. yo acaba de llego al hotel. El hotel is precioso. Se llama el marriot. La arena es tan cliente. La gente aqui es muy bueno. Tengo ir a comer. Adios mamma y pap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7" name="Picture 7" descr="Marriott Marbella Beach Resort, Marbella, Spain"/>
          <p:cNvPicPr/>
          <p:nvPr/>
        </p:nvPicPr>
        <p:blipFill>
          <a:blip r:embed="rId1"/>
          <a:stretch/>
        </p:blipFill>
        <p:spPr>
          <a:xfrm>
            <a:off x="6019920" y="4419720"/>
            <a:ext cx="20095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a numero 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 encounte hoy en la playa. Tambien a nadar en la playa. Yo bronceado en la playa. Hoy fue inc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ίble. Me gustaria que estuvieras aq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5" descr="thumbnail"/>
          <p:cNvPicPr/>
          <p:nvPr/>
        </p:nvPicPr>
        <p:blipFill>
          <a:blip r:embed="rId1"/>
          <a:stretch/>
        </p:blipFill>
        <p:spPr>
          <a:xfrm>
            <a:off x="4724280" y="40384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a numero tr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lima de aqui es bueno. El sol es tan brillante. Fui a pescar hoy. Fue muy divertido. Cugi un gran pez. Tengo que 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5" descr="thumbnail"/>
          <p:cNvPicPr/>
          <p:nvPr/>
        </p:nvPicPr>
        <p:blipFill>
          <a:blip r:embed="rId1"/>
          <a:stretch/>
        </p:blipFill>
        <p:spPr>
          <a:xfrm>
            <a:off x="4800600" y="4167360"/>
            <a:ext cx="3238560" cy="21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8:38:52Z</dcterms:created>
  <dc:creator>bourquejus</dc:creator>
  <dc:description/>
  <dc:language>en-US</dc:language>
  <cp:lastModifiedBy>bourquejus</cp:lastModifiedBy>
  <dcterms:modified xsi:type="dcterms:W3CDTF">2011-12-02T19:57:58Z</dcterms:modified>
  <cp:revision>11</cp:revision>
  <dc:subject/>
  <dc:title>Mi viaje a</dc:title>
</cp:coreProperties>
</file>